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912CF466-6586-4ABB-A334-A0468511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2B79E86-DF31-401D-8886-5FCE9274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36470600-8236-4E32-8B09-DA1A72AF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896E-4E75-48E8-87F7-59BFA42CF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1F0E-5CF4-4889-81BC-3457D0E10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5CD0-ED97-4D0C-9464-EDE843427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6F92-3B18-4793-83D5-2607279E3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A26-B8A3-4C18-A37A-73748D9B3B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ADE-156F-47BC-BF6E-48C765E1E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BC9-8E0B-4C35-87B0-621D4CE68C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F3A-B2F8-47B4-9144-F3597ACF4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7BD-ECFC-4499-8469-C3BBEF47C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150-E0AB-44D0-8C16-C094DC44F3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DE0-F10D-4DCE-98DB-9EC421068D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6228-4A5B-4CD7-B0FB-067283CEA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CD7-EF7E-4CB4-B08F-F9BF854CC2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A7E-2AD5-409F-9D16-98320B4DA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969-EBD9-4233-AB3B-F84E40AB9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409-67B4-4F76-86CB-EF232304C9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A07-433E-4268-BDB8-DFE16773D9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5ACA3-B6F1-41DE-B7CC-A2D0EB52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01D7B-64FE-43B3-9806-442B319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E3E6F-3A58-4F33-B1F0-36226B10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A40BA-B535-4768-BD3E-2D81D22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C1AC5-AE3F-4786-94CB-420D9C6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3F09-7F10-4E93-9713-754457A115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837CB-EA57-469D-88B5-4C5F58E6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A4515-E514-4789-BD09-5C09953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AF3EA6-7A5F-4651-9BF4-52D4C047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8B7C5-1D15-4DEC-965D-276088E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29C4A-8BF3-4835-BF1B-2280D93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8CFD5-5EB9-4C75-ADC7-A60D7403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C7DE6-87E5-48EF-9BAB-31E1A82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F3449-A339-4B63-A684-CD89D000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E07B4-3001-4110-A09F-80F4A35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69733-7652-4461-AD7F-62504D67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B0BD-2610-4110-90BA-2D6774831B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F2698-4EB9-4DB5-9E3D-90BD4FD0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F1075-E6B1-4E14-AAD1-4B5D286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F617E-699C-406B-A0A0-79F75B72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1621D-8A99-4C04-9B5C-3C4C2CA5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6E083-F941-4E2D-9508-D66278B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FB1B1-E5E7-493F-AE1F-5628644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4DA2F-1DCC-4968-8EE3-883221C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4DDEE-04C4-44FB-A78B-E97F786B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20D4C-5EDF-427A-8080-6B4BB86F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464A-3068-4A3A-981D-0F78D6574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51F2-198D-4D25-825A-1BA4DDDAF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A1AB-B4B4-44DD-AC20-EC34DFDB2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5DE8-8C9B-4AD2-A98B-A052376E0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DA65-78CE-465F-B405-9967DCE91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"/>
          <p:cNvSpPr/>
          <p:nvPr/>
        </p:nvSpPr>
        <p:spPr>
          <a:xfrm rot="10800600">
            <a:off x="0" y="6209640"/>
            <a:ext cx="9144000" cy="646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5770" h="407">
                <a:moveTo>
                  <a:pt x="0" y="0"/>
                </a:moveTo>
                <a:lnTo>
                  <a:pt x="5770" y="0"/>
                </a:lnTo>
                <a:lnTo>
                  <a:pt x="5770" y="407"/>
                </a:lnTo>
                <a:lnTo>
                  <a:pt x="5502" y="407"/>
                </a:lnTo>
                <a:lnTo>
                  <a:pt x="5203" y="407"/>
                </a:lnTo>
                <a:lnTo>
                  <a:pt x="4828" y="399"/>
                </a:lnTo>
                <a:lnTo>
                  <a:pt x="4406" y="378"/>
                </a:lnTo>
                <a:lnTo>
                  <a:pt x="3954" y="341"/>
                </a:lnTo>
                <a:lnTo>
                  <a:pt x="3732" y="320"/>
                </a:lnTo>
                <a:lnTo>
                  <a:pt x="3518" y="291"/>
                </a:lnTo>
                <a:lnTo>
                  <a:pt x="3303" y="262"/>
                </a:lnTo>
                <a:lnTo>
                  <a:pt x="3104" y="218"/>
                </a:lnTo>
                <a:lnTo>
                  <a:pt x="2966" y="196"/>
                </a:lnTo>
                <a:lnTo>
                  <a:pt x="2590" y="131"/>
                </a:lnTo>
                <a:lnTo>
                  <a:pt x="2322" y="95"/>
                </a:lnTo>
                <a:lnTo>
                  <a:pt x="2023" y="66"/>
                </a:lnTo>
                <a:lnTo>
                  <a:pt x="1678" y="44"/>
                </a:lnTo>
                <a:lnTo>
                  <a:pt x="1311" y="29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7f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1295280"/>
            <a:ext cx="7315200" cy="0"/>
          </a:xfrm>
          <a:prstGeom prst="line">
            <a:avLst/>
          </a:prstGeom>
          <a:ln w="1908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222-7DA0-4391-B0CA-527BFFD825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sim_2color_sig"/>
          <p:cNvPicPr/>
          <p:nvPr/>
        </p:nvPicPr>
        <p:blipFill>
          <a:blip r:embed="rId2"/>
          <a:stretch/>
        </p:blipFill>
        <p:spPr>
          <a:xfrm>
            <a:off x="7453440" y="5784840"/>
            <a:ext cx="1690560" cy="96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Num" idx="3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B13-17FD-4AFA-8122-8B8D0F9DBBC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sim_2color_sig"/>
          <p:cNvPicPr/>
          <p:nvPr/>
        </p:nvPicPr>
        <p:blipFill>
          <a:blip r:embed="rId2"/>
          <a:stretch/>
        </p:blipFill>
        <p:spPr>
          <a:xfrm>
            <a:off x="7975440" y="6188040"/>
            <a:ext cx="1168560" cy="66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E19D-1210-4933-8498-A4817B85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7C31-7EA4-4D0C-8438-CCC485FF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6480" y="2282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1314"/>
                </a:solidFill>
                <a:latin typeface="Arial"/>
              </a:rPr>
              <a:t>WARNING:</a:t>
            </a:r>
            <a:endParaRPr b="0" lang="en-US" sz="44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49280" y="1371240"/>
            <a:ext cx="6438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aking, carrying, or using overhead transparencies for every item in this training packet poses a significant physical and mental health hazard to you and your audience -- use sparingly and very judicious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798720" y="4952880"/>
            <a:ext cx="1543320" cy="154332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FC10-1F63-4178-B146-6052DD39A9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asons for the 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develop a plan for completing assignments and will “wait until the last minu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consider the overall quality of the work they turn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ccasionally forget to turn in their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A2A0-F4C9-41C0-BD73-1D7A19F17B3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2224080" y="162000"/>
            <a:ext cx="4689360" cy="6181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1FA-C5A5-479F-BE4B-52412BB183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sults of Research on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1606680" y="2155680"/>
            <a:ext cx="6669000" cy="3381480"/>
            <a:chOff x="1606680" y="2155680"/>
            <a:chExt cx="6669000" cy="3381480"/>
          </a:xfrm>
        </p:grpSpPr>
        <p:sp>
          <p:nvSpPr>
            <p:cNvPr id="259" name="Rectangle 7"/>
            <p:cNvSpPr/>
            <p:nvPr/>
          </p:nvSpPr>
          <p:spPr>
            <a:xfrm>
              <a:off x="4032000" y="215568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Mast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1606680" y="2935080"/>
              <a:ext cx="249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ignments turned in on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4489200" y="296856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80%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122560" y="4324320"/>
              <a:ext cx="197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des on Assign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4485600" y="4419720"/>
              <a:ext cx="32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       C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2"/>
            <p:cNvGrpSpPr/>
            <p:nvPr/>
          </p:nvGrpSpPr>
          <p:grpSpPr>
            <a:xfrm>
              <a:off x="4142160" y="2636640"/>
              <a:ext cx="4133520" cy="2900520"/>
              <a:chOff x="4142160" y="2636640"/>
              <a:chExt cx="4133520" cy="2900520"/>
            </a:xfrm>
          </p:grpSpPr>
          <p:sp>
            <p:nvSpPr>
              <p:cNvPr id="265" name="Rectangle 13"/>
              <p:cNvSpPr/>
              <p:nvPr/>
            </p:nvSpPr>
            <p:spPr>
              <a:xfrm>
                <a:off x="4142160" y="2636640"/>
                <a:ext cx="4133520" cy="2900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4"/>
              <p:cNvSpPr/>
              <p:nvPr/>
            </p:nvSpPr>
            <p:spPr>
              <a:xfrm>
                <a:off x="6208560" y="2636640"/>
                <a:ext cx="0" cy="290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5"/>
              <p:cNvSpPr/>
              <p:nvPr/>
            </p:nvSpPr>
            <p:spPr>
              <a:xfrm>
                <a:off x="4142160" y="4086360"/>
                <a:ext cx="41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16"/>
            <p:cNvSpPr/>
            <p:nvPr/>
          </p:nvSpPr>
          <p:spPr>
            <a:xfrm>
              <a:off x="6246000" y="2155680"/>
              <a:ext cx="19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 Mast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Picture 1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B7D-D83B-433A-B7CD-3944F114F4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for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are required to complete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have the needed academic skills to complete most of their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are disorganized in their approach to completing and turning in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49B1-9DEF-4983-ADF1-823C12CC05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for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have learned other strategies targeted at academic skills (e.g., Sentence, Paragraph, and Theme Writing, Math Strategies, etc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A0DE-1C43-4CD8-83F2-A2F95CDB78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ndix A: Evaluation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ndix B: Instructional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2DD9-754B-4371-B8D2-909D8E003F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4C20-E075-4600-A8B9-054BE75740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BFFD-2011-49DC-89DC-D954CB79D8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Quality Quest Planner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steps &amp;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hly Planning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ekly Planning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ment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 Ch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D551-25F2-42A2-A289-4DCA6AB81D4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309600" y="0"/>
            <a:ext cx="8483400" cy="6377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rcRect l="0" t="14438" r="0" b="0"/>
          <a:stretch/>
        </p:blipFill>
        <p:spPr>
          <a:xfrm>
            <a:off x="7983360" y="6321600"/>
            <a:ext cx="11368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E66-CE74-46A0-A28A-E1B04CD373FD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2720" y="88920"/>
            <a:ext cx="5033880" cy="6240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355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9000" y="104580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1314"/>
                </a:solidFill>
                <a:latin typeface="Arial"/>
              </a:rPr>
              <a:t>The Assignment Completion Strategy</a:t>
            </a:r>
            <a:br>
              <a:rPr sz="2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iner’s Guide developed by Charles Hughes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athy Ruhl, Donald Deshler, and Jean Schumaker</a:t>
            </a:r>
            <a:endParaRPr b="0" lang="en-US" sz="12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earning Strategy Se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University of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for Research on Lear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wrence,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2729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1C1-944E-4C28-BAC7-561E9BD77546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090880" y="9360"/>
            <a:ext cx="4957560" cy="634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A41-DE21-4DD2-ABEF-5612DFCDAA0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16080" y="133200"/>
            <a:ext cx="4907160" cy="623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A354-342F-4F9C-842F-689B32E6C90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129320" y="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1314"/>
                </a:solidFill>
                <a:latin typeface="Arial"/>
              </a:rPr>
              <a:t>Anatomy of the Assignment Complet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203280" y="1373040"/>
            <a:ext cx="2925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ch 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rd and 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an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p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age in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ck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n I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You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528920" y="766800"/>
            <a:ext cx="178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step begins with a verb that activates the learner’s respon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643200" y="716040"/>
            <a:ext cx="21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self-instruct to be ready.  (A self-instruction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556240" y="1125360"/>
            <a:ext cx="246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write the assignment, reflect, and ask questions. (A questio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6045120" y="2111400"/>
            <a:ext cx="18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make a plan. (A plan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985000" y="2846520"/>
            <a:ext cx="183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take control &amp; set goals. (A self-control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6218280" y="3979800"/>
            <a:ext cx="189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complete the work &amp; ask questions. (A questio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5994360" y="5038560"/>
            <a:ext cx="21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check &amp; correct the wor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 monitor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3492360" y="5451480"/>
            <a:ext cx="233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get the work turned in on time. (A monitor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927000" y="5342040"/>
            <a:ext cx="20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self evaluate and set goals. (A self-control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1511280" y="4516560"/>
            <a:ext cx="12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 a few  steps are us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160640" y="3608280"/>
            <a:ext cx="151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can use the steps to instruct self through the proce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1063800" y="2611440"/>
            <a:ext cx="166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rategy steps are generic &amp; can be used for any assignment in any cla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939960" y="1603440"/>
            <a:ext cx="191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letters spell the word, “PROJECT”, the meaning of which is related to an assign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8"/>
          <p:cNvSpPr/>
          <p:nvPr/>
        </p:nvSpPr>
        <p:spPr>
          <a:xfrm flipH="1" flipV="1">
            <a:off x="2825280" y="1207800"/>
            <a:ext cx="436680" cy="29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9"/>
          <p:cNvSpPr/>
          <p:nvPr/>
        </p:nvSpPr>
        <p:spPr>
          <a:xfrm flipH="1" flipV="1">
            <a:off x="2638080" y="2006280"/>
            <a:ext cx="623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2738160" y="2678040"/>
            <a:ext cx="523800" cy="16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1"/>
          <p:cNvSpPr/>
          <p:nvPr/>
        </p:nvSpPr>
        <p:spPr>
          <a:xfrm flipH="1">
            <a:off x="2700000" y="3600360"/>
            <a:ext cx="523800" cy="16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2736720" y="4621320"/>
            <a:ext cx="524160" cy="5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3"/>
          <p:cNvSpPr/>
          <p:nvPr/>
        </p:nvSpPr>
        <p:spPr>
          <a:xfrm flipH="1">
            <a:off x="2947680" y="5294160"/>
            <a:ext cx="42372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4"/>
          <p:cNvSpPr/>
          <p:nvPr/>
        </p:nvSpPr>
        <p:spPr>
          <a:xfrm flipH="1" flipV="1">
            <a:off x="5860800" y="3876480"/>
            <a:ext cx="385560" cy="22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5"/>
          <p:cNvSpPr/>
          <p:nvPr/>
        </p:nvSpPr>
        <p:spPr>
          <a:xfrm flipH="1" flipV="1">
            <a:off x="4516200" y="4758840"/>
            <a:ext cx="161640" cy="74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6"/>
          <p:cNvSpPr/>
          <p:nvPr/>
        </p:nvSpPr>
        <p:spPr>
          <a:xfrm flipH="1" flipV="1">
            <a:off x="5364000" y="4300560"/>
            <a:ext cx="696960" cy="82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"/>
          <p:cNvSpPr/>
          <p:nvPr/>
        </p:nvSpPr>
        <p:spPr>
          <a:xfrm flipH="1">
            <a:off x="4803480" y="3079800"/>
            <a:ext cx="1120680" cy="11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8"/>
          <p:cNvSpPr/>
          <p:nvPr/>
        </p:nvSpPr>
        <p:spPr>
          <a:xfrm flipH="1">
            <a:off x="4677840" y="2370240"/>
            <a:ext cx="138276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9"/>
          <p:cNvSpPr/>
          <p:nvPr/>
        </p:nvSpPr>
        <p:spPr>
          <a:xfrm flipH="1">
            <a:off x="4379760" y="1298520"/>
            <a:ext cx="26208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0"/>
          <p:cNvSpPr/>
          <p:nvPr/>
        </p:nvSpPr>
        <p:spPr>
          <a:xfrm flipH="1">
            <a:off x="5213520" y="1647720"/>
            <a:ext cx="387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1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4E6-E47A-4FD3-99A0-36D0666CF4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1: Pretest 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btain measures of current performance in mainstream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information with the Classroom Data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nformation using the Assignment Summary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6A09-A492-43F1-B24F-D31C3787A1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1: Pretest 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btain measures of use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Pretest Assig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Pre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A775-CE53-4406-90F5-7560A8B8879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295360" y="36360"/>
            <a:ext cx="4548240" cy="6274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3BD-13C8-4193-838D-8C798260D1C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265480" y="50760"/>
            <a:ext cx="4606920" cy="6308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BFD-EAEB-4FDE-A8DA-FB3DFE93758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79520" y="120600"/>
            <a:ext cx="4579920" cy="611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2F9-7279-40F0-BB2A-A7DB5E3CD76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255760" y="165240"/>
            <a:ext cx="4626000" cy="6080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C1E-A725-4477-96E7-F93E323F64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etest Assign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for tomorrow: read Chapter 2 and answer chapter checkup questions on p.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apier-mache and paint, make a model of an igneous rock intrusion. Bring it to class on _______ (day of the wee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9B08-524B-4542-AA3D-8B8EA8CD62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413400" y="2711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361200" y="3255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88200" y="379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3752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361200" y="47671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42000" y="4965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340320" y="538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781440" y="23353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Visual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62A4-8365-4433-9F25-2B15821116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etest Assign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: English (omit due d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library today, find a book about a person you admire. Read the book, and prepare a poster that portrays the person as he or she might appear in a movie poster tod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707-40E5-4E1B-AE0B-B49ACB98D9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2: Describ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e steps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ue Cards 1-13, describe and discuss each of the strategy steps and sub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727-866E-468B-9DC9-07B5D26412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1: Psych Up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your fo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your mi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E07-F188-47FE-890E-E450904652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2: Record and As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assignment using abbrevi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about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D14-5656-465F-9F18-0E437421B1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ubject Area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33440" y="1494000"/>
            <a:ext cx="3905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met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5322960" y="1494000"/>
            <a:ext cx="3805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7271-294B-4B82-A58F-AF25511E58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General Rules for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personal abbreviations for personal messages to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first two or three letters of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abbreviate short words (“map,” “odd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irst initials for word pairs (Social Studies = SS, Language Arts = L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EC07-946E-4E03-A3DB-C7B22497EE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ther Common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/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711B-CA1B-483F-B5AD-CD239AE030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ther Common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. or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. 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D8E2-08DC-49D5-9091-E82C16B603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ypes of Information to Recor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20B7-B040-48E9-A94F-A7DA57E968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3: Organiz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k the assignment into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ate the number of study sess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dule the s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e your materials h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E12C-4892-4F22-A7EC-59E4EBF49B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07240" y="295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553080" y="345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96160" y="3629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642000" y="406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66040" y="45925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962760" y="4782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489720" y="5259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Letter Mnem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and Note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B888-9552-4057-B505-DB11FF99DC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4: Jump To I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contr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materials to your study sp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others about you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the assig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up a rew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08E0-A6DE-43AF-A4EB-5546BF6770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5: Engage in the Wor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any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help if you need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0AA2-40E0-48FA-99DC-58A25D1B27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6: Check the Wor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qu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the assign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FB3F-5FDD-4210-A80D-C0BD321AB8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7: Turn It I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it to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en for and follow instructions to turn it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d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ise your effor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actual gr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488E-F400-4B48-80CC-822A6D2EE7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8: Set Your Cours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your gr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your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about future goa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05B-05FF-446F-8E76-DCF00DC985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3: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Assignment Completion Strategy while thinking al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e strategy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st student partic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C1F1-08BE-48BA-9BDE-993B67D9A4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3 and answer questions 1-9 on page 67. Write at least 2 sentences for each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42, all eve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46, problems 1-5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C09-904C-4840-8D50-3B23943BA1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lish (present orally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books on your list, read it, and write a book report. Due the 2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A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exercise A and B in workbook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E97-33B5-4A43-B9D4-1F05F3618D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ce (present orally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space capsule for an egg. Build it so the egg will not break when dropped from the roof. We will drop the space capsule at school on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C95-788D-41DC-B3A8-24EA7C297626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546120" y="0"/>
            <a:ext cx="8219880" cy="6237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EE7-C4FD-45DB-8804-079684D530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870600" y="249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58000" y="269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0" y="2887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908760" y="337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907320" y="393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946920" y="4470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870600" y="5010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908760" y="5452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277040" y="56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6896160" y="6087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and Demonstration of Compe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436760" y="4276800"/>
            <a:ext cx="36748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43C-3182-4237-BF95-0008888AD57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2279520" y="-25560"/>
            <a:ext cx="4579920" cy="6427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9C8-F504-4562-85EE-8213B31F6A3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2073240" y="168120"/>
            <a:ext cx="4991040" cy="624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DB2-4913-423A-A6E9-1DB497A4E9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4: Verbal Practi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understand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he Verbal Elaboration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understanding with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0C78-4E3A-4694-857D-4A90B58412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4: Verbal Practi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can name the strategy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he Verbal Rehearsal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understanding with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1D22-2478-4315-BA7D-1B707E8E43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xample Verbal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laboration Ques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ain purpose o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us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nefit yo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me, in your own words, what you do as you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AC9-E7ED-4FC0-A151-4ECE70C023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xample Verbal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laboration Ques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two things you need to prepare in the first step of the strateg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ree forms do you need to prep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o you prepare these for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prepare your min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113-8073-4638-B092-094AA46D425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101680" y="104760"/>
            <a:ext cx="4935600" cy="6269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81E-128F-4324-86E3-F4054B7AF7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5: Controlle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actice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ractice and master the first three steps of the Assignment Completion Strategy under controlled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1B2-6140-42F0-A3F5-75CC04DC95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5: Controlle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actice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are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the “PRO”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erformance is scored. (Left-hand column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ment Completion Strat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ore She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098-D51C-419B-8226-1358C57B49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ntrolled Practic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#1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--2 weeks from today. Chps. 4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“Preparing to Write,” pgs. 74-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short summary (3 sentences) of each step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8E0-EF86-4349-B311-2F10588F7E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ertinent Setting Deman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are required to complete hundreds of out-of-classroom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ion of homework assignments can account for up to 30% of a student’s grade in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CFEA-64CA-4ED2-992E-2F8973B5D1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ntrolled Practic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#1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: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riday, you and your partner are to create a travelogue describing the route taken by the first people to reach North America. Bring your travelogues to class. We’ll put them around the room so everyone can look at th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9999-BA1E-4EE7-AEAD-03316E986ED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51000" y="88920"/>
            <a:ext cx="4835520" cy="6249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9ED-F69C-45C7-B594-1A1F8A7F2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6: Advanced Practice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mast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rategy steps on assignments given by the strategy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F354-3ACC-4438-A704-A353D7D960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6: Advanced Practice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involvement is enl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are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Quality Quest Pl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omplete assignments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ssignment completion performance is scored.  (Both columns of the Score She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730C-E812-49DE-B37A-440DD0383A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7: Posttest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easure student progress and celebrate succes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procedures that were used in the Pretes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9B8-0DF0-4CB6-B56E-FB682A7492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8: General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V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2841-F1AA-4FA0-B6E1-283C176A93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: Orien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students aware of different situations where they can use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79AA-79C5-4CD9-B104-E4B963F693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: Orien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rationales for using the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list different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flexible use of the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students make cu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students make affirmation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95E-0E95-4D6F-8DB8-D56CA47FC2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: Activ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use the strategy in their mainstream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36D-BB4D-40C9-9F18-C2161B3B9C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: Activ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students to use the strategy in their mainstream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Quality Quest Planner wee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collect information on student assignment completion performance from mainstream teac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68E-2498-466F-9486-667CF0B208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urpose of the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record assignments quickly and accu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analyze assignments in terms of requirements and needed effort to complet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create a plan for completing quality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use self-control techniques to complete and hand in quality assignments on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915E-5F71-4D8C-8A50-D9D1F59EE8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I: Adap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students practice in adapting the strategy to different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E8A1-FE70-4568-A0CF-814868DA66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I: Adap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cognitive activities performed when using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different situations where each of these cognitive activities is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ractice adaptations both in class and in other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F159-500A-45E7-BAF8-BEC3C47D9C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V: Maintenan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continue to use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243-5D25-4D7F-85E4-7677F0DE8B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V: Maintenan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ntenance checks once every four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student’s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190E-552C-4E3E-966F-FAC9C0C175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ych u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in each space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in the dates on the Month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d special events on the Month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d dates on the Week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d in busy times on the Week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5E0C-761E-41B0-B099-F0E769EE16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sych up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in each space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names of subjects on Grade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grade goals for each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ready in class with th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ssignment immediately when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3A5-288B-4169-ACAD-629166F08A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 and As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bbreviations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subject for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dat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du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assignme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d the action wor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BA6-A553-4809-B028-EDEC0436F7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ord and As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materials/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grading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ed a question when information was not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C3B0-57F0-4AD4-9196-244C1D94AE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gani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the parts of th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 time to th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the number of study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assignment number on the Monthly Planning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he study sessions on the Weekly Planning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447B-4255-486B-9B90-92ED732305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mp to 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d both a Quality and a Grad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an appropriate goal related to th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CF96-29DD-4D1E-860D-2F20AAC9D1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s of the Assignment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ch 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rd and 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p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age in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ck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n 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Your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F14-16AD-4D7F-9146-C26D384C8D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age in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ed a question about the work or asked for help on th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tudent completed the work with no difficulty, write “NA” for “Not applica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699B-6FBB-47B1-8D74-7EAAE70C65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met or exceeded the establishe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ual performance matched or exceeded the Quality Goal set by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 Goal box was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B38-08CD-458A-B5CF-427435B7DC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Goal box was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was stored properly (i.e., not wrinkled, smudged, or to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972-3B15-4230-B7E3-935A9B5A01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rn It I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ed in the assignmen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date turned in on the Assignment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A7B-ECED-417F-8F46-2F74C336C7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Your Cour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ctual grade earned on the Assignment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ctual grade earned on the corresponding Grad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 futur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214-2DC5-4F04-ABB8-4FC7C1B4A179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133720" y="122400"/>
            <a:ext cx="4871880" cy="6284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F90A-DC13-44B8-A613-40CFCAD2C46D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2133720" y="123840"/>
            <a:ext cx="4871880" cy="6232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1590-3626-4BF4-BAEF-FD204FC1410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2160720" y="117360"/>
            <a:ext cx="4817880" cy="6270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20EC-A531-4D99-8BB6-1FF6A06DD77D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2146320" y="33480"/>
            <a:ext cx="4844880" cy="63118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39B-BB18-44C7-B7BC-64EFEABC839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3" descr=""/>
          <p:cNvPicPr/>
          <p:nvPr/>
        </p:nvPicPr>
        <p:blipFill>
          <a:blip r:embed="rId1"/>
          <a:stretch/>
        </p:blipFill>
        <p:spPr>
          <a:xfrm>
            <a:off x="382680" y="165240"/>
            <a:ext cx="8372520" cy="60973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8A1-182A-4A6C-8CA3-D2035A27FA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asons for the 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record assignments accurately or complete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ask for help if they do not understand an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estimate how much time/effort is required to complete an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411E-F9C7-4DBB-8B70-62DA88ECB7C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2092320" y="76320"/>
            <a:ext cx="4954680" cy="6276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699E-3E86-4D96-8408-A8D538A9E8D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2119320" y="96840"/>
            <a:ext cx="4898880" cy="62848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CE4-2B44-4466-9D3E-C4635C11A5D7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160720" y="142920"/>
            <a:ext cx="4817880" cy="62704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09D-4F3E-48E9-8E62-EF1AA08EABE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2114640" y="81000"/>
            <a:ext cx="4908600" cy="62420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4E3-834D-4AF2-A740-5D2D992BAD68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3" descr=""/>
          <p:cNvPicPr/>
          <p:nvPr/>
        </p:nvPicPr>
        <p:blipFill>
          <a:blip r:embed="rId1"/>
          <a:stretch/>
        </p:blipFill>
        <p:spPr>
          <a:xfrm>
            <a:off x="409680" y="201600"/>
            <a:ext cx="8318520" cy="62038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2"/>
          <a:srcRect l="0" t="22861" r="0" b="0"/>
          <a:stretch/>
        </p:blipFill>
        <p:spPr>
          <a:xfrm>
            <a:off x="7983360" y="6369120"/>
            <a:ext cx="1136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72F-8774-4451-8D2C-7E192686ECA1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2165400" y="155520"/>
            <a:ext cx="4808520" cy="61437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E0D-87C8-433F-9C6A-225E99EFFD7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160720" y="163440"/>
            <a:ext cx="4817880" cy="6178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8EE5-FABC-4A6A-9D8C-76E26F9CC2E9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2279520" y="98280"/>
            <a:ext cx="4579920" cy="6283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694F-A17B-4C90-9098-FA2BA1F7BBD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2206800" y="73080"/>
            <a:ext cx="4725720" cy="6308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E220-B346-4788-B094-DD6964353511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4" descr=""/>
          <p:cNvPicPr/>
          <p:nvPr/>
        </p:nvPicPr>
        <p:blipFill>
          <a:blip r:embed="rId1"/>
          <a:stretch/>
        </p:blipFill>
        <p:spPr>
          <a:xfrm>
            <a:off x="2219400" y="117360"/>
            <a:ext cx="4699080" cy="63216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9:06:27Z</dcterms:created>
  <dc:creator>Brian Staats</dc:creator>
  <dc:description/>
  <dc:language>en-US</dc:language>
  <cp:lastModifiedBy>faietaj</cp:lastModifiedBy>
  <dcterms:modified xsi:type="dcterms:W3CDTF">2011-04-06T12:59:10Z</dcterms:modified>
  <cp:revision>43</cp:revision>
  <dc:subject/>
  <dc:title>WARNING:</dc:title>
</cp:coreProperties>
</file>